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88F-E9BD-464E-BB64-BCD14B1F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A1C-9CA6-4DC8-8345-883AE853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87B-F318-417A-9044-43F4384E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56E-2C0C-4EFF-85C6-2B717781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09C-54CD-4DB2-9177-90A6C94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11E-6411-4822-ADC0-95CBBAC1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94B-EEB0-478C-8C8B-1B83F07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CFB-62EB-4B98-A9C5-683C4E8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36C-D0C0-49BE-B8E0-ECCD6B47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AC5-35F5-4FDB-9F6D-09453ED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359-3A61-41F0-84F1-85854A93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32F-91AC-4873-990C-7EDBF64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385B-0EB5-4024-8708-39E767A76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kezelé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-SERVER telepítése, és kez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elesítés megvaló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telesítési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telesítési mód kiválasz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ndows hiteles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gyes 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alósítás lépés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lenőrizzük, hogy megbízható kapcsolatokat használunk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lítsuk be a hitelesítési mó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lítsuk le, majd indítsuk újra az MSSQLServer szolgáltat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zzuk létre Windows csoportokat és felhasználó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almazzuk fel őket az SQL Server elér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zzuk létre SQL Server bejelentkezési fiókokat a nem megbízható kapcsolattal rendelkező felhasználók szám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jelentkezési fiókok létreh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indows fiók hozzá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grantlogin {‘bejelentkezési_név’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terpriz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QL Server fiók hozzá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addlogin {‘bejelentkezési_név’}[,’ jelszó’[,’ adatbázis’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terpriz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_password segítségével lehet jelszót változta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jelentkezési fiók hozzárendelése felhasználói fiókokho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egy adatbázishoz felhasználói fiókot szeretnénk hozzáadni, használhatjuk az SQL Server Enterprise Manager segédprogramot, vagy végrehajthatjuk az  sp_grantdbacces rendszerszintű tárolt eljár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t csak az adatbázis tulajdonosa, vagy a hozzáférést felügyelő személy teheti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zerepközök hozzáadása és elvét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zzá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addsrvrolemember bejelentkezési_név, szerepkő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: EXEC sp_addsrvrolemember ‘béla’,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távol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_dropsrvrol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ítés me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ális hardver és szoftver szükség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Server változ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lepítési mód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ítési beállí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lepítés ellenőr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ális hardver és szoftver szüksé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el Pentium 166-megahertz (MHz) vagy gyos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perációs rendsz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2000 Enterprise Edition and Standard Editi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Windows Server 2003 Standard Edition, Windows Server 2003 Enterprise Edition, Windows Server 2003 Datacenter Edition ,Windows® 2000 Server , Windows 2000 Advanced Server, Windows 2000 Datacenter Server ,Windows NT® Server version 4.0 with Service Pack 5 (SP5) or later ,Windows NT Server 4.0, Enterprise Edition, with SP5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2000 Evaluation Edition and Developer Editi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fentieken kívül Windows XP Professional ,Windows XP Home Edition ,Windows 2000 Professional ,Windows NT Workstation 4.0 with SP5 or lat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2000 Personal Edition2 and SQL Server 2000 Desktop Engine (MSDE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fentieken kívül Windows Server 2003, Web Edition1 (MSDE only) ,Windows 98 ,Windows Millennium Edition (Windows M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ális hardver és szoftver szüksé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mór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terprise Edition: 64 megabytes (MB) of RAM; 128 MB ajánl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ndard Edition: 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valuation Edition: 64 MB; 128 MB ajánl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veloper Edition: 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rsonal Edition: 128 MB Windows XP esetén; 64 MB Windows 2000 esetén; 32 MB egyéb Op. Rendszer es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SDE: 128 MB Windows XP esetén; 64 MB Windows 2000 esetén; 32 MB egyéb eset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Server válto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terpris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ndard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vaulation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veloper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ersonal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S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elepítési mód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telep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kásos telep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éni telep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4360" y="2781360"/>
          <a:ext cx="8064360" cy="3600360"/>
        </p:xfrm>
        <a:graphic>
          <a:graphicData uri="http://schemas.openxmlformats.org/drawingml/2006/table">
            <a:tbl>
              <a:tblPr/>
              <a:tblGrid>
                <a:gridCol w="3816360"/>
                <a:gridCol w="1439640"/>
                <a:gridCol w="1224000"/>
                <a:gridCol w="158436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pítési beáll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kás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tbázis - kiszolgál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ssítő eszközö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en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n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öbbszörözés támogat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jes szövegben történő keres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gyfélkezelő eszközö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en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gyfélkapcsolato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n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n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dokumentáci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laszt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ítési beállí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lepítési útv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fájlok : adatbázismotor és egyéb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fájlok: rendszer- és mintaadatbázi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kész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sznált nyelvet támogató karakterkészletet kell megadni, az összes adatbázis használni fog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tólagos módosítás esetén az összes adatbázis újra kell telep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ezési sor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lózati támog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med Pipes, TCP/IP, Multiprotocol stb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elepítés ellenőr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lepítés eredményeinek áttekin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ő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ázi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értelmezett biztonsági 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olgáltatások ind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tlakozás az SQL server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terpriz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Query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védelem keze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elesítés megvaló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jelentkezési fiók hozzárendelése felhasználókhoz és szerepkörökhö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délyek hozzárendelése felhasználókhoz és szerepkörökhö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ztonság terve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6:50:03Z</dcterms:created>
  <dc:creator>Nagymáté Péter</dc:creator>
  <dc:description/>
  <dc:language>en-US</dc:language>
  <cp:lastModifiedBy>Nagymáté Péter</cp:lastModifiedBy>
  <dcterms:modified xsi:type="dcterms:W3CDTF">2004-09-16T08:31:49Z</dcterms:modified>
  <cp:revision>4</cp:revision>
  <dc:subject/>
  <dc:title>Adatbázis kezelés II.</dc:title>
</cp:coreProperties>
</file>